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serie06.wav" ContentType="audio/x-wav"/>
  <Override PartName="/ppt/media/jetflyby2.wav" ContentType="audio/x-wav"/>
  <Override PartName="/ppt/media/zapbig0g.wav" ContentType="audio/x-wav"/>
  <Override PartName="/ppt/media/GUNSHOT.WAV" ContentType="audio/x-wav"/>
  <Override PartName="/ppt/media/PROJCTOR.WAV" ContentType="audio/x-wav"/>
  <Override PartName="/ppt/media/caralarmoff.wav" ContentType="audio/x-wav"/>
  <Override PartName="/ppt/media/WHOOSH.WAV" ContentType="audio/x-wav"/>
  <Override PartName="/ppt/media/highchim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098-0C02-4F2B-B795-0179ABFD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C64-9C47-41B5-9C1A-16F3F107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69D-5986-4A00-8B74-6317FF37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C9E-D886-4E2B-A789-B95A4BFF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27F6-7DEF-43F5-8D62-8226424A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730-2820-4CD1-982F-7ABE500E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43B-7531-4162-AF17-C7E72C71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BD6-4DE7-497F-A690-E7BE16D5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FE8-2435-41A8-A18B-1B38DC51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2218-DB62-45DD-960D-BDBB2629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D82-EDCA-4D0A-BC48-B3EF6AEE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3C0-7F34-41DC-9479-ED062132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F4DC-E37C-47E0-9708-18CBB7172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caralarmoff.wav"/><Relationship Id="rId7" Type="http://schemas.openxmlformats.org/officeDocument/2006/relationships/audio" Target="../media/WHOOSH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PROJCTOR.WAV"/><Relationship Id="rId13" Type="http://schemas.openxmlformats.org/officeDocument/2006/relationships/audio" Target="../media/PROJCTOR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audio" Target="../media/PROJCTOR.WAV"/><Relationship Id="rId24" Type="http://schemas.openxmlformats.org/officeDocument/2006/relationships/audio" Target="../media/PROJCTOR.WAV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PROJCTOR.WAV"/><Relationship Id="rId28" Type="http://schemas.openxmlformats.org/officeDocument/2006/relationships/audio" Target="../media/PROJCTOR.WAV"/><Relationship Id="rId29" Type="http://schemas.openxmlformats.org/officeDocument/2006/relationships/audio" Target="../media/PROJCTOR.WAV"/><Relationship Id="rId30" Type="http://schemas.openxmlformats.org/officeDocument/2006/relationships/audio" Target="../media/PROJCTOR.WAV"/><Relationship Id="rId31" Type="http://schemas.openxmlformats.org/officeDocument/2006/relationships/audio" Target="../media/PROJCTOR.WAV"/><Relationship Id="rId32" Type="http://schemas.openxmlformats.org/officeDocument/2006/relationships/audio" Target="../media/PROJCTOR.WAV"/><Relationship Id="rId33" Type="http://schemas.openxmlformats.org/officeDocument/2006/relationships/audio" Target="../media/PROJCTOR.WAV"/><Relationship Id="rId34" Type="http://schemas.openxmlformats.org/officeDocument/2006/relationships/audio" Target="../media/PROJCTOR.WAV"/><Relationship Id="rId35" Type="http://schemas.openxmlformats.org/officeDocument/2006/relationships/audio" Target="../media/PROJCTOR.WAV"/><Relationship Id="rId36" Type="http://schemas.openxmlformats.org/officeDocument/2006/relationships/audio" Target="../media/GUNSHOT.WAV"/><Relationship Id="rId37" Type="http://schemas.openxmlformats.org/officeDocument/2006/relationships/audio" Target="../media/GUNSHOT.WAV"/><Relationship Id="rId38" Type="http://schemas.openxmlformats.org/officeDocument/2006/relationships/audio" Target="../media/GUNSHOT.WAV"/><Relationship Id="rId39" Type="http://schemas.openxmlformats.org/officeDocument/2006/relationships/audio" Target="../media/GUNSHOT.WAV"/><Relationship Id="rId4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caralarmoff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GUNSHOT.WAV"/><Relationship Id="rId23" Type="http://schemas.openxmlformats.org/officeDocument/2006/relationships/audio" Target="../media/PROJCTOR.WAV"/><Relationship Id="rId24" Type="http://schemas.openxmlformats.org/officeDocument/2006/relationships/audio" Target="../media/PROJCTOR.WAV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PROJCTOR.WAV"/><Relationship Id="rId28" Type="http://schemas.openxmlformats.org/officeDocument/2006/relationships/audio" Target="../media/PROJCTOR.WAV"/><Relationship Id="rId29" Type="http://schemas.openxmlformats.org/officeDocument/2006/relationships/audio" Target="../media/PROJCTOR.WAV"/><Relationship Id="rId30" Type="http://schemas.openxmlformats.org/officeDocument/2006/relationships/audio" Target="../media/PROJCTOR.WAV"/><Relationship Id="rId31" Type="http://schemas.openxmlformats.org/officeDocument/2006/relationships/audio" Target="../media/PROJCTOR.WAV"/><Relationship Id="rId32" Type="http://schemas.openxmlformats.org/officeDocument/2006/relationships/audio" Target="../media/PROJCTOR.WAV"/><Relationship Id="rId33" Type="http://schemas.openxmlformats.org/officeDocument/2006/relationships/audio" Target="../media/GUNSHOT.WAV"/><Relationship Id="rId34" Type="http://schemas.openxmlformats.org/officeDocument/2006/relationships/audio" Target="../media/GUNSHOT.WAV"/><Relationship Id="rId35" Type="http://schemas.openxmlformats.org/officeDocument/2006/relationships/audio" Target="../media/GUNSHOT.WAV"/><Relationship Id="rId36" Type="http://schemas.openxmlformats.org/officeDocument/2006/relationships/audio" Target="../media/GUNSHOT.WAV"/><Relationship Id="rId37" Type="http://schemas.openxmlformats.org/officeDocument/2006/relationships/audio" Target="../media/GUNSHOT.WAV"/><Relationship Id="rId3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audio" Target="../media/PROJCTOR.WAV"/><Relationship Id="rId24" Type="http://schemas.openxmlformats.org/officeDocument/2006/relationships/audio" Target="../media/PROJCTOR.WAV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PROJCTOR.WAV"/><Relationship Id="rId28" Type="http://schemas.openxmlformats.org/officeDocument/2006/relationships/audio" Target="../media/PROJCTOR.WAV"/><Relationship Id="rId29" Type="http://schemas.openxmlformats.org/officeDocument/2006/relationships/audio" Target="../media/PROJCTOR.WAV"/><Relationship Id="rId30" Type="http://schemas.openxmlformats.org/officeDocument/2006/relationships/audio" Target="../media/PROJCTOR.WAV"/><Relationship Id="rId31" Type="http://schemas.openxmlformats.org/officeDocument/2006/relationships/audio" Target="../media/PROJCTOR.WAV"/><Relationship Id="rId32" Type="http://schemas.openxmlformats.org/officeDocument/2006/relationships/audio" Target="../media/PROJCTOR.WAV"/><Relationship Id="rId33" Type="http://schemas.openxmlformats.org/officeDocument/2006/relationships/audio" Target="../media/GUNSHOT.WAV"/><Relationship Id="rId34" Type="http://schemas.openxmlformats.org/officeDocument/2006/relationships/audio" Target="../media/GUNSHOT.WAV"/><Relationship Id="rId35" Type="http://schemas.openxmlformats.org/officeDocument/2006/relationships/audio" Target="../media/GUNSHOT.WAV"/><Relationship Id="rId36" Type="http://schemas.openxmlformats.org/officeDocument/2006/relationships/audio" Target="../media/GUNSHOT.WAV"/><Relationship Id="rId37" Type="http://schemas.openxmlformats.org/officeDocument/2006/relationships/audio" Target="../media/GUNSHOT.WAV"/><Relationship Id="rId3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Notes Over 5 - 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143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The results of a survey of 24 students on the hours of TV they watch daily are listed below. Display the data in a frequency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2133720"/>
            <a:ext cx="5029200" cy="87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 3  4  3  1  1  2  3  4  1  3  2 2  2  1  3  2  1  2  3  2  4  3 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3429000"/>
            <a:ext cx="8076960" cy="3048120"/>
            <a:chOff x="533520" y="3429000"/>
            <a:chExt cx="8076960" cy="3048120"/>
          </a:xfrm>
        </p:grpSpPr>
        <p:sp>
          <p:nvSpPr>
            <p:cNvPr id="45" name=""/>
            <p:cNvSpPr/>
            <p:nvPr/>
          </p:nvSpPr>
          <p:spPr>
            <a:xfrm>
              <a:off x="533520" y="4038480"/>
              <a:ext cx="8076960" cy="243864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3520" y="5257800"/>
              <a:ext cx="807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3520" y="4648320"/>
              <a:ext cx="807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520" y="5867280"/>
              <a:ext cx="807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520" y="3429000"/>
              <a:ext cx="8076960" cy="609480"/>
            </a:xfrm>
            <a:prstGeom prst="rect">
              <a:avLst/>
            </a:prstGeom>
            <a:solidFill>
              <a:srgbClr val="ff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3429000"/>
              <a:ext cx="0" cy="304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67280" y="3429000"/>
              <a:ext cx="0" cy="304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520" y="3429000"/>
              <a:ext cx="24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99"/>
                  </a:solidFill>
                  <a:latin typeface="Times New Roman"/>
                </a:rPr>
                <a:t>Hours of T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429000"/>
              <a:ext cx="24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99"/>
                  </a:solidFill>
                  <a:latin typeface="Times New Roman"/>
                </a:rPr>
                <a:t>Tall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920" y="3429000"/>
              <a:ext cx="24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99"/>
                  </a:solidFill>
                  <a:latin typeface="Times New Roman"/>
                </a:rPr>
                <a:t>Frequenc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09480" y="4038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4648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257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5867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4191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10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6019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5410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4191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4191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5410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6019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191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5410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191120"/>
            <a:ext cx="6094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41008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480060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4191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5410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6019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5410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4038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4648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5257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5867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5904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Frequency Tables and Line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Notes Over 5 - 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5904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Frequency Tables and Line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play each set of data in a frequency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5029200" cy="483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  4   0   3   0   1   3   2   2 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124080"/>
            <a:ext cx="8077320" cy="3048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34340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73392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95288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514600"/>
            <a:ext cx="8077320" cy="60948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25146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25146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514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2514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T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2514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124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733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4952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4495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5105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4495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3276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3886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5105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3886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3124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3733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343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4952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56272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562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5715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5715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562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Notes Over 5 - 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5904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Frequency Tables and Line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play each set of data in a frequency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1752480"/>
            <a:ext cx="5715000" cy="483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 2  8  7  9  3  5  4  8  2  4  6  4 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124080"/>
            <a:ext cx="8077320" cy="3048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34340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373392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495288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514600"/>
            <a:ext cx="8077320" cy="60948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25146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25146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514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2514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T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2514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124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–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733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– 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343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–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4952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–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5105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3124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3733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343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4952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556272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5562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– 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5562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886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5715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5105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5715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3886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495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495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5715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3886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4495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5105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4495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133720"/>
            <a:ext cx="914400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39, 5 – 14 #1 –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47/16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609480"/>
            <a:ext cx="7543800" cy="4953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5904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Frequency Tables and Line Pl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17:55:50Z</dcterms:created>
  <dc:creator>Don Helms</dc:creator>
  <dc:description/>
  <dc:language>en-US</dc:language>
  <cp:lastModifiedBy>DAMON SKELTON</cp:lastModifiedBy>
  <dcterms:modified xsi:type="dcterms:W3CDTF">2004-11-01T01:58:48Z</dcterms:modified>
  <cp:revision>13</cp:revision>
  <dc:subject/>
  <dc:title>No Slide Title</dc:title>
</cp:coreProperties>
</file>